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16F1-977A-4537-8C8E-86E11CA3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D15D-C4FB-45B6-9C8B-90A901D7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3BD5-7387-4CE9-8A64-BA13A18A3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F787-1595-4975-B315-AF9A2B43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01C2-D02A-4B5D-8174-92FD6F46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E234-9136-48EC-B03E-4CA50A40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1CF7-A790-4FD3-AB5C-3DAB5D91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AD92-354B-4156-9439-C44046B5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678C-D597-41A5-9D81-BE9AD47E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A82F-E224-458E-BEDE-3299F44C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981E-B002-4EAA-ADFD-292C77D2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F668-0401-4D76-9312-142188BF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CDEF-7AA1-4ACB-AF29-7A924ADF4B5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BF6B-267D-414F-BE9E-68F05D2BAF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mailto:e.v.zakhvatova@gmail.com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2" descr="25005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040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1" descr="back"/>
          <p:cNvPicPr/>
          <p:nvPr/>
        </p:nvPicPr>
        <p:blipFill>
          <a:blip r:embed="rId2"/>
          <a:stretch/>
        </p:blipFill>
        <p:spPr>
          <a:xfrm>
            <a:off x="-19080" y="4846680"/>
            <a:ext cx="9175680" cy="2023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5" descr="back_1"/>
          <p:cNvPicPr/>
          <p:nvPr/>
        </p:nvPicPr>
        <p:blipFill>
          <a:blip r:embed="rId3"/>
          <a:stretch/>
        </p:blipFill>
        <p:spPr>
          <a:xfrm>
            <a:off x="0" y="0"/>
            <a:ext cx="9144000" cy="17305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468360" y="5516640"/>
            <a:ext cx="8424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нешняя оценка профессорско-преподавательского состава образовательной 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8" descr=""/>
          <p:cNvPicPr/>
          <p:nvPr/>
        </p:nvPicPr>
        <p:blipFill>
          <a:blip r:embed="rId4"/>
          <a:stretch/>
        </p:blipFill>
        <p:spPr>
          <a:xfrm>
            <a:off x="142920" y="142920"/>
            <a:ext cx="2214360" cy="928800"/>
          </a:xfrm>
          <a:prstGeom prst="rect">
            <a:avLst/>
          </a:prstGeom>
          <a:ln w="0">
            <a:noFill/>
          </a:ln>
        </p:spPr>
      </p:pic>
      <p:sp>
        <p:nvSpPr>
          <p:cNvPr id="48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FAD9-F4FE-41C2-8EF2-9044460068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14320" y="274680"/>
            <a:ext cx="69721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alibri"/>
              </a:rPr>
              <a:t>Эффективный контракт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28760" y="135684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alibri"/>
              </a:rPr>
              <a:t>     </a:t>
            </a:r>
            <a:r>
              <a:rPr b="1" lang="ru-RU" sz="2800" spc="-1" strike="noStrike" u="sng">
                <a:solidFill>
                  <a:srgbClr val="990000"/>
                </a:solidFill>
                <a:uFillTx/>
                <a:latin typeface="Calibri"/>
              </a:rPr>
              <a:t>Цель</a:t>
            </a:r>
            <a:r>
              <a:rPr b="1" lang="ru-RU" sz="2800" spc="-1" strike="noStrike">
                <a:solidFill>
                  <a:srgbClr val="990000"/>
                </a:solidFill>
                <a:latin typeface="Calibri"/>
              </a:rPr>
              <a:t> перехода на эффективный контракт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реализация изменений в сфере высшего образования, направленных на </a:t>
            </a:r>
            <a:r>
              <a:rPr b="1" lang="ru-RU" sz="2400" spc="-1" strike="noStrike">
                <a:solidFill>
                  <a:srgbClr val="990000"/>
                </a:solidFill>
                <a:latin typeface="Calibri"/>
              </a:rPr>
              <a:t>повышение эффективности и качеств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услуг в сфере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6072120"/>
            <a:ext cx="9144000" cy="7858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"/>
          <p:cNvPicPr/>
          <p:nvPr/>
        </p:nvPicPr>
        <p:blipFill>
          <a:blip r:embed="rId2"/>
          <a:stretch/>
        </p:blipFill>
        <p:spPr>
          <a:xfrm>
            <a:off x="142920" y="214200"/>
            <a:ext cx="1468440" cy="61272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ая соединительная линия 6"/>
          <p:cNvSpPr/>
          <p:nvPr/>
        </p:nvSpPr>
        <p:spPr>
          <a:xfrm>
            <a:off x="1643040" y="1071720"/>
            <a:ext cx="7169040" cy="17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29D1-8FFA-40D9-A051-C636DE3E69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28840" y="274680"/>
            <a:ext cx="75009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990000"/>
                </a:solidFill>
                <a:latin typeface="Calibri"/>
              </a:rPr>
              <a:t>Методика перехода на эффективный контракт</a:t>
            </a: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00040" y="135684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alibri"/>
              </a:rPr>
              <a:t>ЦЕЛЬ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перевод профессорско-преподавательского состава организаций, реализующих программы высшего образования, на эффективный контракт, за счет  заключения соответствующих дополнительных соглашений к трудовым договорам со всеми педагогическими работниками организации, на основе </a:t>
            </a:r>
            <a:r>
              <a:rPr b="1" lang="ru-RU" sz="2400" spc="-1" strike="noStrike" u="sng">
                <a:solidFill>
                  <a:srgbClr val="990000"/>
                </a:solidFill>
                <a:uFillTx/>
                <a:latin typeface="Calibri"/>
              </a:rPr>
              <a:t>целевых показателей эффективност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работы каждого сотрудни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0" y="6072120"/>
            <a:ext cx="9144000" cy="7858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4" descr=""/>
          <p:cNvPicPr/>
          <p:nvPr/>
        </p:nvPicPr>
        <p:blipFill>
          <a:blip r:embed="rId2"/>
          <a:stretch/>
        </p:blipFill>
        <p:spPr>
          <a:xfrm>
            <a:off x="0" y="214200"/>
            <a:ext cx="1468440" cy="6127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ая соединительная линия 6"/>
          <p:cNvSpPr/>
          <p:nvPr/>
        </p:nvSpPr>
        <p:spPr>
          <a:xfrm>
            <a:off x="1643040" y="1071720"/>
            <a:ext cx="7169040" cy="17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EFB2-32A2-4A1B-8FA1-B69A5B8405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43040" y="428760"/>
            <a:ext cx="75009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Calibri"/>
              </a:rPr>
              <a:t>Этапы перевода ППС на эффективный контрак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28400" y="1356840"/>
            <a:ext cx="84294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ведение внешнего (внутреннего) аудита ППС образовательной организаци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 Разработка рекомендаций для ОО по следующим направлениям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1. Оптимизация системы управления персоналом (кадровой политики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2. Оптимизация численности ППС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3. </a:t>
            </a:r>
            <a:r>
              <a:rPr b="0" lang="ru-RU" sz="2200" spc="-1" strike="noStrike">
                <a:solidFill>
                  <a:srgbClr val="990000"/>
                </a:solidFill>
                <a:latin typeface="Calibri"/>
              </a:rPr>
              <a:t>Актуализация системы мотивации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ППС на основе целевых показателей эффективности работы каждого сотрудника – </a:t>
            </a:r>
            <a:r>
              <a:rPr b="0" lang="ru-RU" sz="2200" spc="-1" strike="noStrike">
                <a:solidFill>
                  <a:srgbClr val="990000"/>
                </a:solidFill>
                <a:latin typeface="Calibri"/>
              </a:rPr>
              <a:t>ПЕРЕВОД СОТРУДНИКОВ НА ЭФФЕКТИВНЫЙ КОНТРАК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4. Актуализация системы профессионального развития ПП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  Оказание дальнейшей поддержки образовательной организ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0" y="6072120"/>
            <a:ext cx="9144000" cy="78588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4" descr=""/>
          <p:cNvPicPr/>
          <p:nvPr/>
        </p:nvPicPr>
        <p:blipFill>
          <a:blip r:embed="rId2"/>
          <a:stretch/>
        </p:blipFill>
        <p:spPr>
          <a:xfrm>
            <a:off x="142920" y="214200"/>
            <a:ext cx="1468440" cy="61272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ая соединительная линия 6"/>
          <p:cNvSpPr/>
          <p:nvPr/>
        </p:nvSpPr>
        <p:spPr>
          <a:xfrm>
            <a:off x="1643040" y="1071720"/>
            <a:ext cx="7169040" cy="17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AB3C-3908-4DE0-8045-BCEF4EC71C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8840" y="428760"/>
            <a:ext cx="75009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Calibri"/>
              </a:rPr>
              <a:t>Актуализация системы мотивации ППС </a:t>
            </a:r>
            <a:br>
              <a:rPr sz="2400"/>
            </a:b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400" y="1356840"/>
            <a:ext cx="84294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аботка критериев эффективности деятельности ППС, влияющих на переменную часть заработной плат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туализация механизма оплаты труда ППС за счет введения переменной (стимулирующей) части заработной пла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туализация процедуры аттестации ПП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0" y="6072120"/>
            <a:ext cx="9144000" cy="7858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"/>
          <p:cNvPicPr/>
          <p:nvPr/>
        </p:nvPicPr>
        <p:blipFill>
          <a:blip r:embed="rId2"/>
          <a:stretch/>
        </p:blipFill>
        <p:spPr>
          <a:xfrm>
            <a:off x="142920" y="214200"/>
            <a:ext cx="1468440" cy="61272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ая соединительная линия 6"/>
          <p:cNvSpPr/>
          <p:nvPr/>
        </p:nvSpPr>
        <p:spPr>
          <a:xfrm>
            <a:off x="1643040" y="1071720"/>
            <a:ext cx="7169040" cy="17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D2F1-9C69-4939-8525-6949CFCA85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43040" y="356760"/>
            <a:ext cx="75009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Calibri"/>
              </a:rPr>
              <a:t>Внешняя оценка ППС образовательной организации</a:t>
            </a:r>
            <a:br>
              <a:rPr sz="2400"/>
            </a:b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0" y="6072120"/>
            <a:ext cx="9144000" cy="78588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"/>
          <p:cNvPicPr/>
          <p:nvPr/>
        </p:nvPicPr>
        <p:blipFill>
          <a:blip r:embed="rId2"/>
          <a:stretch/>
        </p:blipFill>
        <p:spPr>
          <a:xfrm>
            <a:off x="142920" y="214200"/>
            <a:ext cx="1468440" cy="61272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ая соединительная линия 6"/>
          <p:cNvSpPr/>
          <p:nvPr/>
        </p:nvSpPr>
        <p:spPr>
          <a:xfrm>
            <a:off x="1643040" y="857160"/>
            <a:ext cx="7169040" cy="1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FF86-8274-46EB-925F-120BEBBEAB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8760" y="864720"/>
            <a:ext cx="8253360" cy="49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Цел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еспечение высокого уровня качества образования и планируемых результатов обуч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крепление гарантий качества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еспечение реализации образовательной программы в соответствии с современными требованиями и запросами рынка труд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спользование в процессе реализации программы современных образовательных методик и технолог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витие культуры качества образования у сотрудников и преподава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"/>
          <p:cNvSpPr/>
          <p:nvPr/>
        </p:nvSpPr>
        <p:spPr>
          <a:xfrm>
            <a:off x="214200" y="189000"/>
            <a:ext cx="8750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071720"/>
            <a:ext cx="82296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Calibri"/>
              </a:rPr>
              <a:t>Благодарим за внимани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хватова Елена Валентин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e.v.zakhvatova@gmail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8(495)221-81-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ая соединительная линия 5"/>
          <p:cNvSpPr/>
          <p:nvPr/>
        </p:nvSpPr>
        <p:spPr>
          <a:xfrm>
            <a:off x="1714680" y="1071720"/>
            <a:ext cx="7429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8" descr=""/>
          <p:cNvPicPr/>
          <p:nvPr/>
        </p:nvPicPr>
        <p:blipFill>
          <a:blip r:embed="rId3"/>
          <a:stretch/>
        </p:blipFill>
        <p:spPr>
          <a:xfrm>
            <a:off x="142920" y="214200"/>
            <a:ext cx="1571760" cy="785880"/>
          </a:xfrm>
          <a:prstGeom prst="rect">
            <a:avLst/>
          </a:prstGeom>
          <a:ln w="0">
            <a:noFill/>
          </a:ln>
        </p:spPr>
      </p:pic>
      <p:sp>
        <p:nvSpPr>
          <p:cNvPr id="139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0440-4F55-4D41-B4D6-62EFA13AD0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43040" y="274680"/>
            <a:ext cx="70437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alibri"/>
              </a:rPr>
              <a:t>Методология QS World University Rankings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1468440" cy="612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0" y="6072120"/>
            <a:ext cx="9144000" cy="7858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ая соединительная линия 7"/>
          <p:cNvSpPr/>
          <p:nvPr/>
        </p:nvSpPr>
        <p:spPr>
          <a:xfrm>
            <a:off x="1285920" y="1285920"/>
            <a:ext cx="7429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9526-51F1-41C7-90F9-864E831C40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Схема 9" descr=""/>
          <p:cNvPicPr/>
          <p:nvPr/>
        </p:nvPicPr>
        <p:blipFill>
          <a:blip r:embed="rId3"/>
          <a:stretch/>
        </p:blipFill>
        <p:spPr>
          <a:xfrm>
            <a:off x="512640" y="1384200"/>
            <a:ext cx="8472600" cy="68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785880" y="2214720"/>
          <a:ext cx="7572240" cy="3571560"/>
        </p:xfrm>
        <a:graphic>
          <a:graphicData uri="http://schemas.openxmlformats.org/drawingml/2006/table">
            <a:tbl>
              <a:tblPr/>
              <a:tblGrid>
                <a:gridCol w="1143000"/>
                <a:gridCol w="4572000"/>
                <a:gridCol w="1857240"/>
              </a:tblGrid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крите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дельный ве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адемическая репутац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путация среди работодател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отношение ППС к числу студент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декс цитируемост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ля иностранных студен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ля иностранных преподавател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43040" y="274680"/>
            <a:ext cx="70437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alibri"/>
              </a:rPr>
              <a:t>Московский государственный университет имени 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Calibri"/>
              </a:rPr>
              <a:t>М. В. Ломонос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3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1468440" cy="612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0" y="6072120"/>
            <a:ext cx="9144000" cy="7858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ая соединительная линия 7"/>
          <p:cNvSpPr/>
          <p:nvPr/>
        </p:nvSpPr>
        <p:spPr>
          <a:xfrm>
            <a:off x="1285920" y="1285920"/>
            <a:ext cx="7429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7F1F-DDA8-4D22-AD26-04B0B2ECCF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хема 9" descr=""/>
          <p:cNvPicPr/>
          <p:nvPr/>
        </p:nvPicPr>
        <p:blipFill>
          <a:blip r:embed="rId3"/>
          <a:stretch/>
        </p:blipFill>
        <p:spPr>
          <a:xfrm>
            <a:off x="512640" y="1384200"/>
            <a:ext cx="8472600" cy="68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785880" y="2214720"/>
          <a:ext cx="3143160" cy="3730320"/>
        </p:xfrm>
        <a:graphic>
          <a:graphicData uri="http://schemas.openxmlformats.org/drawingml/2006/table">
            <a:tbl>
              <a:tblPr/>
              <a:tblGrid>
                <a:gridCol w="714240"/>
                <a:gridCol w="1428840"/>
                <a:gridCol w="1000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атистические да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зря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4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,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5" name="Диаграмма 12" descr=""/>
          <p:cNvPicPr/>
          <p:nvPr/>
        </p:nvPicPr>
        <p:blipFill>
          <a:blip r:embed="rId4"/>
          <a:stretch/>
        </p:blipFill>
        <p:spPr>
          <a:xfrm>
            <a:off x="4071960" y="2571840"/>
            <a:ext cx="48099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00120" y="285480"/>
            <a:ext cx="742968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00"/>
                </a:solidFill>
                <a:latin typeface="Calibri"/>
              </a:rPr>
              <a:t>Московский государственный университет имени </a:t>
            </a:r>
            <a:br>
              <a:rPr sz="2200"/>
            </a:br>
            <a:r>
              <a:rPr b="1" lang="ru-RU" sz="2200" spc="-1" strike="noStrike">
                <a:solidFill>
                  <a:srgbClr val="990000"/>
                </a:solidFill>
                <a:latin typeface="Calibri"/>
              </a:rPr>
              <a:t>М. В. Ломоносова (результаты выполнения критериев, 2013 г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3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1468440" cy="6127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ая соединительная линия 6"/>
          <p:cNvSpPr/>
          <p:nvPr/>
        </p:nvSpPr>
        <p:spPr>
          <a:xfrm>
            <a:off x="1571760" y="1214280"/>
            <a:ext cx="71434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9054-140D-404E-9721-1D899242BC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57120" y="1397160"/>
          <a:ext cx="8429760" cy="4605120"/>
        </p:xfrm>
        <a:graphic>
          <a:graphicData uri="http://schemas.openxmlformats.org/drawingml/2006/table">
            <a:tbl>
              <a:tblPr/>
              <a:tblGrid>
                <a:gridCol w="4432320"/>
                <a:gridCol w="2035080"/>
                <a:gridCol w="19623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рите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исло баллов из 100 возмож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сто в рейтинге по критер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80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учная репу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путация среди работода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отношение научно-преподавательского состава и студе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ля иностранцев в научно-преподавательском соста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ля иностранцев в общем числе студе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цитирований на одного сотруд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.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0" y="6072120"/>
            <a:ext cx="914400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71760" y="14256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alibri"/>
              </a:rPr>
              <a:t>Международный обзор публикационной активности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(с 1999 по 2009 г.г., по базе данных </a:t>
            </a:r>
            <a:r>
              <a:rPr b="1" lang="en-US" sz="2000" spc="-1" strike="noStrike">
                <a:solidFill>
                  <a:srgbClr val="990000"/>
                </a:solidFill>
                <a:latin typeface="Calibri"/>
              </a:rPr>
              <a:t>Thomson </a:t>
            </a:r>
            <a:r>
              <a:rPr b="1" lang="en-US" sz="2400" spc="-1" strike="noStrike">
                <a:solidFill>
                  <a:srgbClr val="990000"/>
                </a:solidFill>
                <a:latin typeface="Calibri"/>
              </a:rPr>
              <a:t>Scientific</a:t>
            </a:r>
            <a:r>
              <a:rPr b="1" lang="ru-RU" sz="2400" spc="-1" strike="noStrike">
                <a:solidFill>
                  <a:srgbClr val="99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3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1468440" cy="6127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ая соединительная линия 4"/>
          <p:cNvSpPr/>
          <p:nvPr/>
        </p:nvSpPr>
        <p:spPr>
          <a:xfrm>
            <a:off x="1332000" y="1197000"/>
            <a:ext cx="6553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0" y="6072120"/>
            <a:ext cx="9144000" cy="785880"/>
          </a:xfrm>
          <a:prstGeom prst="rect">
            <a:avLst/>
          </a:prstGeom>
          <a:ln w="0">
            <a:noFill/>
          </a:ln>
        </p:spPr>
      </p:pic>
      <p:sp>
        <p:nvSpPr>
          <p:cNvPr id="78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E100-B6B0-4F8D-84E2-B7FEB20316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71680" y="1285920"/>
          <a:ext cx="8072280" cy="4572000"/>
        </p:xfrm>
        <a:graphic>
          <a:graphicData uri="http://schemas.openxmlformats.org/drawingml/2006/table">
            <a:tbl>
              <a:tblPr/>
              <a:tblGrid>
                <a:gridCol w="1000080"/>
                <a:gridCol w="2000160"/>
                <a:gridCol w="1843200"/>
                <a:gridCol w="1614240"/>
                <a:gridCol w="1614600"/>
              </a:tblGrid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исло ста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исло ссыл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. число ссылок на одну стат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74.3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669.0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02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рм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6.1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406.8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г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2.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399.3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по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.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602.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ран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8.0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304.1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на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4.5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233.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а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3.5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17.8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.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3.1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99.5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14320" y="285840"/>
            <a:ext cx="69721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alibri"/>
              </a:rPr>
              <a:t>Нормативная баз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57120" y="128556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64960" indent="-264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ан мероприятий («дорожная карта»)  «Изменения в отраслях социальной сферы, направленные на повышение эффективности образования и науки», утвержденным распоряжением Правительства Российской Федерации  от 30 декабря 2012 г. № 2620-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264960" indent="-26496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2" marL="264960" indent="-264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енная программа Российской Федерации «Развитие образования» (распоряжение Правительства Российской Федерации от 22 ноября 2012 г. № 2148-р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264960" indent="-26496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2" marL="264960" indent="-264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едеральный закон от 29 декабря 2012 г. № 273-ФЗ «Об образовании в Российской Федерации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0" y="6072120"/>
            <a:ext cx="9144000" cy="7858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"/>
          <p:cNvPicPr/>
          <p:nvPr/>
        </p:nvPicPr>
        <p:blipFill>
          <a:blip r:embed="rId2"/>
          <a:stretch/>
        </p:blipFill>
        <p:spPr>
          <a:xfrm>
            <a:off x="142920" y="214200"/>
            <a:ext cx="1468440" cy="612720"/>
          </a:xfrm>
          <a:prstGeom prst="rect">
            <a:avLst/>
          </a:prstGeom>
          <a:ln w="0">
            <a:noFill/>
          </a:ln>
        </p:spPr>
      </p:pic>
      <p:sp>
        <p:nvSpPr>
          <p:cNvPr id="84" name="Прямая соединительная линия 6"/>
          <p:cNvSpPr/>
          <p:nvPr/>
        </p:nvSpPr>
        <p:spPr>
          <a:xfrm>
            <a:off x="1643040" y="1000080"/>
            <a:ext cx="7169040" cy="1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E2DD-B5A0-43DE-995D-F45961503A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6215040"/>
            <a:ext cx="9144000" cy="642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71400" y="142920"/>
            <a:ext cx="73580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Calibri"/>
              </a:rPr>
              <a:t>План мероприятий ("дорожная карта") "Изменения в отраслях социальной сферы, направленные на повышение эффективности образования и науки»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990000"/>
                </a:solidFill>
                <a:latin typeface="Calibri"/>
              </a:rPr>
              <a:t>утв. распоряжением Правительства РФ от 30 декабря 2012 г. № 2620-р</a:t>
            </a:r>
            <a:r>
              <a:rPr b="1" lang="ru-RU" sz="1800" spc="-1" strike="noStrike">
                <a:solidFill>
                  <a:srgbClr val="99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8760" y="142884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Часть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зменения в сфере высшего образования, направленные на повышение эффективности и качества услуг в сфере образования, соотнесенные с этапами перехода к эффективному контрак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сновные направления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тие кадрового потенциала высшего 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жидаемые результаты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удет сформирована сбалансированная сеть образовательных организаций высшего образования, ориентированная на удовлетворение потребности работодателей в высококвалифицированных кадрах и развитие научно-технологического потенциала российских регионов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усматривается осуществление структурных преобразований сети российских образовательных организаций высшего образования, создание условий для вхождения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 2020 году 5 вузов - лидеров в первую сотню ведущих мировых университетов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гласно мировому рейтингу университет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высится уровень мотивации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учных и научно-педагогических кадров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 рамках перехода к эффективному контракту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Будут реализованы новые финансово-экономические механизмы, обеспечивающие конкуренцию и повышение качества высшего образова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C38F-C7FD-45F2-8ED5-0F5A532B2E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4" descr=""/>
          <p:cNvPicPr/>
          <p:nvPr/>
        </p:nvPicPr>
        <p:blipFill>
          <a:blip r:embed="rId2"/>
          <a:stretch/>
        </p:blipFill>
        <p:spPr>
          <a:xfrm>
            <a:off x="142920" y="214200"/>
            <a:ext cx="1468440" cy="612720"/>
          </a:xfrm>
          <a:prstGeom prst="rect">
            <a:avLst/>
          </a:prstGeom>
          <a:ln w="0">
            <a:noFill/>
          </a:ln>
        </p:spPr>
      </p:pic>
      <p:sp>
        <p:nvSpPr>
          <p:cNvPr id="91" name="Прямая соединительная линия 5"/>
          <p:cNvSpPr/>
          <p:nvPr/>
        </p:nvSpPr>
        <p:spPr>
          <a:xfrm>
            <a:off x="1571760" y="1285920"/>
            <a:ext cx="7169040" cy="17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614376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71440" y="142920"/>
            <a:ext cx="6615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alibri"/>
              </a:rPr>
              <a:t>Развитие кадрового потенциала высшего профессионального 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85840" y="1071720"/>
          <a:ext cx="8643960" cy="5246640"/>
        </p:xfrm>
        <a:graphic>
          <a:graphicData uri="http://schemas.openxmlformats.org/drawingml/2006/table">
            <a:tbl>
              <a:tblPr/>
              <a:tblGrid>
                <a:gridCol w="428400"/>
                <a:gridCol w="3743640"/>
                <a:gridCol w="1471320"/>
                <a:gridCol w="3000600"/>
              </a:tblGrid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4200" rIns="34200" tIns="34200" bIns="68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74"/>
                        </a:spcBef>
                        <a:spcAft>
                          <a:spcPts val="10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 реа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4200" rIns="34200" tIns="34200" bIns="68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74"/>
                        </a:spcBef>
                        <a:spcAft>
                          <a:spcPts val="10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каза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ка и апробация моделей эффективного контракта в системе высшего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 - 2014 г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шение средней заработной платы ППС образовательных организаций ВО к средней заработной плате в соответствующем регио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дельный вес численности преподавателей организаций высшего образования моложе 30 лет в общей численности преподавателей организаций 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едрение моделей эффективного контракта в системе высшего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 - 2016 г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ка и внедрение механизмов эффективного контракта с руководителями образовательных организаций высшего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-2018 г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ормационное и мониторинговое сопровождение введения эффективного контра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 - 2018 г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ниторинг влияния внедрения эффективного контракта на качество образовательных услуг системы высшего образования, в том числе выявление лучших практик внедрения эффективного контра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 и 2017 г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DE4C-ADA9-4516-8723-E48C1D765B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4" descr=""/>
          <p:cNvPicPr/>
          <p:nvPr/>
        </p:nvPicPr>
        <p:blipFill>
          <a:blip r:embed="rId2"/>
          <a:stretch/>
        </p:blipFill>
        <p:spPr>
          <a:xfrm>
            <a:off x="142920" y="214200"/>
            <a:ext cx="1468440" cy="612720"/>
          </a:xfrm>
          <a:prstGeom prst="rect">
            <a:avLst/>
          </a:prstGeom>
          <a:ln w="0">
            <a:noFill/>
          </a:ln>
        </p:spPr>
      </p:pic>
      <p:sp>
        <p:nvSpPr>
          <p:cNvPr id="97" name="Прямая соединительная линия 5"/>
          <p:cNvSpPr/>
          <p:nvPr/>
        </p:nvSpPr>
        <p:spPr>
          <a:xfrm>
            <a:off x="1571760" y="1000080"/>
            <a:ext cx="7169040" cy="1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14320" y="274680"/>
            <a:ext cx="69721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alibri"/>
              </a:rPr>
              <a:t>Эффективный контракт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28760" y="135684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alibri"/>
              </a:rPr>
              <a:t>     </a:t>
            </a:r>
            <a:r>
              <a:rPr b="1" lang="ru-RU" sz="2600" spc="-1" strike="noStrike">
                <a:solidFill>
                  <a:srgbClr val="990000"/>
                </a:solidFill>
                <a:latin typeface="Calibri"/>
              </a:rPr>
              <a:t>Эффективный контракт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 входит в программу поэтапного совершенствования системы оплаты труда в государственных учреждениях н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2012-2018 гг. и будет учитываться как один из </a:t>
            </a:r>
            <a:r>
              <a:rPr b="1" lang="ru-RU" sz="2600" spc="-1" strike="noStrike">
                <a:solidFill>
                  <a:srgbClr val="990000"/>
                </a:solidFill>
                <a:latin typeface="Calibri"/>
              </a:rPr>
              <a:t>показателей эффективности управления вузом</a:t>
            </a:r>
            <a:r>
              <a:rPr b="0" lang="ru-RU" sz="2600" spc="-1" strike="noStrike">
                <a:solidFill>
                  <a:srgbClr val="99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6072120"/>
            <a:ext cx="9144000" cy="7858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"/>
          <p:cNvPicPr/>
          <p:nvPr/>
        </p:nvPicPr>
        <p:blipFill>
          <a:blip r:embed="rId2"/>
          <a:stretch/>
        </p:blipFill>
        <p:spPr>
          <a:xfrm>
            <a:off x="142920" y="214200"/>
            <a:ext cx="1468440" cy="6127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ая соединительная линия 6"/>
          <p:cNvSpPr/>
          <p:nvPr/>
        </p:nvSpPr>
        <p:spPr>
          <a:xfrm>
            <a:off x="1643040" y="1071720"/>
            <a:ext cx="7169040" cy="17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14A9-180F-4A36-B0FA-11E9EBDE45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hitehoff</dc:creator>
  <dc:description/>
  <dc:language>en-US</dc:language>
  <cp:lastModifiedBy>toshiba</cp:lastModifiedBy>
  <cp:lastPrinted>2011-03-02T09:06:39Z</cp:lastPrinted>
  <dcterms:modified xsi:type="dcterms:W3CDTF">2014-04-18T13:28:55Z</dcterms:modified>
  <cp:revision>450</cp:revision>
  <dc:subject/>
  <dc:title>Слайд 1</dc:title>
</cp:coreProperties>
</file>