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249-EF23-4274-A207-754474A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E61-B9F9-458E-A2E2-01D26FA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327-E8D4-48A4-930E-E8F40439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F97-C4D7-43F6-AF55-9C5C2170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CB57-65B4-49E6-86BC-45FAE39D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1AB6-41B3-409F-9ADA-594237C6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BCEB-2F6E-432D-9F21-3C654AC4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6F2C-0EA5-49ED-98BF-C2C258E2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FF0-E4B0-44F2-BE8A-8EA3F3FC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1FFF-8AFD-4219-9039-FD98F30F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AE80-44D8-4BAA-92B9-C125283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865-6A3E-442D-B8D4-65D8C19C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F454-77E1-4E43-904D-3B2E212B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7691-DB54-4D61-9468-825E8EB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B540-6ED5-4165-87E3-9DD30547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C9B0-0B6B-4C5E-ACA1-666A87AB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3A8-55A0-44C4-9C4F-D5664FDE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E2ECE-0BC6-4220-822D-43B9F2C7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9FA57-C827-4147-B135-3A5E16D4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0A098-50DC-4989-BB01-A4A9C3DD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3B465-2710-4F43-AD60-3820F414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AD28C-8B62-46D9-929F-B46824DB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408-9269-40A7-9506-F7C7739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51F69-51B3-4893-AF42-1D64F09E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0A977-32AC-4F43-9DF7-09472BE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D321A-FDCF-447E-8464-FD8EB6B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9AC60-6666-4D23-8692-2C4232F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50D61-4202-4088-9134-A712E164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37C8A-0B7E-45C8-88AB-36DF8F8E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330BE-1703-496A-85FD-2916D6C3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83FA6-8299-4333-90F8-5B0838F8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8FC35-4DF8-49E5-B683-73CC3586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9BE37-8485-46F7-AEEB-7A0594B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97C-294E-4895-8AB6-B14392A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1152D-86C3-4FA3-83CF-35D40486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8FFBF-289F-4610-8988-5073FA4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087F7-BDAA-43C3-BB96-38A52462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0EBDC-BD6E-41B8-8945-7FE16599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5312C-F80A-4E1D-A595-06A5197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6E926-715C-4CEB-A731-68F422B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0EA75-1F33-4915-9D58-987030F1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8D90F-E5C1-42AD-BCC6-373D5264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B30F7-8553-4C45-9ECF-C0ADD916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2BC81-72A6-498E-8CEB-AD0F0DE6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812-5C5C-455F-A2D9-EAC16C89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73A30-A2EC-428B-8B19-1F20062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6BFE8-871F-49C6-B132-8D42DE9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D3BC0-A3AA-478F-A6DD-7D42420B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CDC17-5B5A-4F45-A928-F07D1AED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DFB0B-FFDD-4BBD-A785-D8336072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B2BBE-9F6A-4DCE-9AE8-A211C4B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28C61-4CB7-4C84-9EAF-22CE18F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A7B44-E30A-4BA8-BD9B-18B33FFB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7CB39-2FB1-412B-BCB3-0655D80E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D4675-BC5A-4129-9A23-C779457D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B65-E2F0-4AB4-88D7-879090F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57D66-322A-48B4-91F9-C7D49F42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2DDD-24D5-4FAD-8165-9E938CE2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2059-FC8A-451B-A298-6F600715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99C7B-F831-4388-8A38-562AEF0B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CD59-FCEB-43B7-A67B-D38A304F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50AA-8213-491E-B217-D7FE4B41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D23A1-938E-4F6F-BF57-990BF6EC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4188-D1C1-4585-B67B-9688DD7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CD9D-2BC3-421D-B75B-1CAE44B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200CE-931D-484E-B48F-F99834C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78E-6E12-4605-A00F-8583565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2567-6E98-4865-AF6F-97EBD82D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31EF5-0F38-4102-93BE-EED32A6C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646B-90B7-479B-8700-ECB2EF83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EA70E-BD1B-4791-9349-0D5706BA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D1170-D7A1-48FD-92DD-899C6A26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5447A-3AD4-41D5-815C-0EC3678D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E0CFEB-B600-4A46-952C-DCABB02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97F89-ED28-46D8-8842-A64C2C5C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FC6C8-18E7-47FC-B4CD-AB07C5D0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04DEE-95B1-4043-BA3B-1BF492B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6A6-3512-4822-953E-A583F24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457A0-DCB1-44A4-97EB-269D819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052BD-2FFA-4E7B-B4F6-A384012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83BBA-FA92-4B72-B2B2-4FB21E36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75ACD-F93F-4A26-8DF8-FA294462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9E273-4FEB-4A60-A7E2-377E700C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63AE1-16B5-4D72-AEE3-45378412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E097A-2BA5-49EB-8592-5FEF1AC3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C6F86-9E34-4D3E-A398-3C88CBB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DE84-C63A-4ECC-B2BA-39B42E5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E4B4-171D-4202-8E5C-2F0537C9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C8C-7D15-4F59-B7E1-65EEA57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C213F-DBC7-4320-829F-4E49658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0E69E-109D-4002-BECF-50C5263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C2F8-75AC-4EC1-9EBC-99550DFA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0FC2C-A7D5-4F13-B6F4-85AAEBD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00F59-8705-4166-9BC1-4621524B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08EF1-2F64-47E0-BDDA-0F1C74FC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F9A3-CE99-41CE-917F-46E18085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8AB-5D0B-46C6-980D-A988B0ADAAB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A1C0-ABE5-4476-8F4F-C107AC721E6D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B18F-B7CD-49AD-9072-456C7FB4654A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A54-BD30-46B5-A065-FB9F0004640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9777-DD51-45A4-892E-842AAB39C6F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8FAD-971C-45C6-B682-335E5CC4FF88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1619-EA96-4F08-B381-9562EF5CEB18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888-8721-454A-926E-E667C4F34E4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91856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МЕТОДОЛОГИЯ ВНУТРЕННЕЙ И ВНЕШНЕЙ ОЦЕНКИ ПЕРСОНАЛА ОБРАЗОВАТЕЛЬНОЙ ОРГАНИЗАЦИИ –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УТИ К ЭФФЕКТИВНОМУ КОНТРАКТУ С СОТРУДНИКАМИ ВСЕХ УРОВНЕЙ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сечкина Л.И. Осокина С.А. Гринева М.С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755640" y="1557360"/>
          <a:ext cx="7704000" cy="1822320"/>
        </p:xfrm>
        <a:graphic>
          <a:graphicData uri="http://schemas.openxmlformats.org/drawingml/2006/table">
            <a:tbl>
              <a:tblPr/>
              <a:tblGrid>
                <a:gridCol w="1541520"/>
                <a:gridCol w="1539720"/>
                <a:gridCol w="1541520"/>
                <a:gridCol w="1540080"/>
                <a:gridCol w="154116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стичное 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ное 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пода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рший препода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ц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Диаграмма 4" descr=""/>
          <p:cNvPicPr/>
          <p:nvPr/>
        </p:nvPicPr>
        <p:blipFill>
          <a:blip r:embed="rId1"/>
          <a:stretch/>
        </p:blipFill>
        <p:spPr>
          <a:xfrm>
            <a:off x="272880" y="3449520"/>
            <a:ext cx="8670960" cy="31989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"/>
          <p:cNvSpPr/>
          <p:nvPr/>
        </p:nvSpPr>
        <p:spPr>
          <a:xfrm>
            <a:off x="108000" y="26244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оответствие выполняемых преподавателями ви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фессиональной деятельности занимаемой должности (в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15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дания на способность к поиску, переработке и представлению информации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нотирование научных статей по проблемам высшей школы: компетентностный подход, балльно-рейтинговая система оценки, совершенствование качества и т.п. (журналы «Высшая школа», «Качество образования», «Современная высшая школа: инновационный аспект»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статьи по проблемам высшей школы (компетентностный подход, балльно-рейтинговая система оценки, совершенствование качества и т.п.) на основе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ес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списка диссертационных исследований за последние 3-5 лет по проблематике преподаваемой дисциплины на основе анализа электронных ресурсов РГБ (http://www.rsl.r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ровни сформированности способности к поиску, обработке и представлению информаци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8" name="Диаграмма 3" descr=""/>
          <p:cNvPicPr/>
          <p:nvPr/>
        </p:nvPicPr>
        <p:blipFill>
          <a:blip r:embed="rId1"/>
          <a:stretch/>
        </p:blipFill>
        <p:spPr>
          <a:xfrm>
            <a:off x="1065240" y="1793880"/>
            <a:ext cx="6877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мер индивидуальных результатов по методике «Якоря карьеры»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561960" y="1549440"/>
            <a:ext cx="82551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74872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2" name="Диаграмма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826400" cy="46753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5"/>
          <p:cNvSpPr/>
          <p:nvPr/>
        </p:nvSpPr>
        <p:spPr>
          <a:xfrm>
            <a:off x="250920" y="260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ыраженность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едущих ориентаций преподавателей (в 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раженность ведущих ориентаций у молодых преподавателей (в %)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5" name="Диаграмма 3" descr=""/>
          <p:cNvPicPr/>
          <p:nvPr/>
        </p:nvPicPr>
        <p:blipFill>
          <a:blip r:embed="rId1"/>
          <a:stretch/>
        </p:blipFill>
        <p:spPr>
          <a:xfrm>
            <a:off x="560520" y="1793880"/>
            <a:ext cx="7878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</a:rPr>
              <a:t>Модуль 3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компетенций в области образовательной деятельности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бласть образовательных компетенций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50560" y="1600200"/>
            <a:ext cx="8515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траивать образовательный процесс в соответствии с компетентностным подход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к формированию у студентов устойчивой мотивации к учебной и будущей профессиональн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в процессе преподавания учебных курсов раскрывать глубину и современность научно-теоретической и профессионально-практическ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конструировать содержание учебных курсов основываясь на логичности и достоверности предлагаем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целесообразно выбирать и уместно применять способы и формы организации образовательной деятельности студ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ние навыками последовательной реализации предъявляемой системы требований и объективности при оценке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ние грамотной профессиональной реч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доступно излагать материал, учитывая уровень подготовки студ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устанавливать контакт, выбирать адекватные способы общения и взаимодействия со студент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ние навыками тактичного поддержания порядка, необходимого для конкретных видов учебных заня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к творческой организации деятельности студ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ладание профессионально-педагогической индивидуальност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0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омпетенции в области образовательной деятельности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ещение учебных занятий преподавателей экспертами (экспертная оцен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анковый опрос самих преподавателей (самооцен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ое или бланковое анкетирование студентов (оценка студен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56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роговые значения для определения уровня сформированности компетенции в области образовательной деятельност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11280" y="2205000"/>
          <a:ext cx="8153280" cy="23320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,49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-2,29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-3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сональная оценка профессиональной деятельности преподавателя дает возможность: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5280" y="1600200"/>
            <a:ext cx="837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являть затруднения, возникающие в профессиональной деятельности педагога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ять их причины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имать обоснованные управленческие решения по кадровым вопроса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соответствии занимаемой преподавателем долж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одтверждении или не подтверждении правомочности притязаний преподавателя на новую должность или з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оощрениях, награждениях и применении различных средств стимулирования деятельности преподавател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необходимости оказания профессиональной помощи конкретным преподавателям, содействия повышению их квалификации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ровни сформированности образовательных компетенций (в %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561960" y="1549440"/>
            <a:ext cx="82551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</a:rPr>
              <a:t>Модуль 4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компетенций в области методической деятельности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еречень методических компетенций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5280" y="1600200"/>
            <a:ext cx="8370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разрабатывать УМКД в соответствии с компетентностной модел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разрабатывать и внедрять в образовательный процесс интерактивные формы и методы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составлять учебно-методические материалы к практическим, семинарским, лабораторным занятиям по дисципли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составлять учебно-методические материалы по выполнению курсовых, выпускных квалификационных работ, научно-исследовательских прое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ность обновлять и дополнять УМКД современными разработками в области науки и практ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ность участвовать в работе научно-методических объединений на уровне вуза, региона, международного уров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составлять учебно-методические материалы к учебной и производственной прак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Компетенции в области методической деятельност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1600200"/>
            <a:ext cx="8297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меральный анализ документов, регламентирующих научно-методическую деятельность преподавателей в образовательной организ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КД, представленных преподавателя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электронной базы библиотеки университе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ы портфоли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планов учебных занятий преподав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вьюир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дуль 5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2060280"/>
            <a:ext cx="8153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компетенций в области научно-исследовательской деятельности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омпетенции в области научно-исследовательской деятельности: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50560" y="1600200"/>
            <a:ext cx="851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определять методологические характеристики научного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представлять результаты научного исследования профессиональному сообщест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осуществлять рефлексию результатов НИР и определять перспективы дальнейших исследо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к внедрению результатов научных исследований в образовательную деятельность, науку, социальную, экономическую и производственную сф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ность участвовать в грантовых проект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представлять процесс и результат научных исследований в форме научных тезисов и статей в периодике (газеты, журналы) и СМИ (Интернет-изда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осуществлять эффективное научное руководство деятельностью магистрантов, аспирантов, соискателей, доктора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организовывать научно-исследовательскую деятельность студ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82036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омпетенции в области научно-исследовательской деятельности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4000" y="1773000"/>
            <a:ext cx="8442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ия преподавателем своей научной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и анализ индивидуального портфоли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ервьюир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ормативные документы: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б образовани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Ф от 07.05.2012 г. № 599 «О мерах по реализации государственной политики в области образования и нау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социально-экономической стратегии России до 2020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Ф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звития исследовательской и инновационной деятельности в российских вузах, ФЗ № 217 от 02.08.2009г. «О внесении изменений в отдельные законодательные акты Российской Федерации по вопросам создания бюджетными научными и образовательными учреждениями хозяйственных обществ в целях практического применения (внедрения) результатов интеллектуальной деятельнос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инновационного развития Российской Федерации на период до 2020 го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ониторинг деятельности федеральных государственных образовательных учреждений высшего профессионального образования и их филиалов, проводимым Минобрнауки, (АК-120/05 от 08.08.2012): </a:t>
            </a:r>
            <a:br>
              <a:rPr sz="1800"/>
            </a:b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оценки эффективности вуза сгруппирова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5 групп по 50 показателям, из них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разовательную деятельность – 12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ую деятельность – 9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-экономическую деятельность – 5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структуру – 7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ую деятельность – 17 показа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еречень критериев оценки научно-исследовательской деятельности, предложенных Министерством образования и науки Российской Федерации, включает следующие параметры: 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цитирований в Web of Science, Scopus, в РИНЦ как студентов, так и преподава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доходов вуза от НИОКР на средства грантов РФФИ, РГНФ, Президента Российской Федерации, некоммерческих негосударственных фондов, зарегистрированных в Российской Федерации, из федерального бюджета в рамках федеральных целевых программ, а также государственных контрактов с федеральными и региональными министерствами, ведомствами, государственными учреждениями, полученных как студентами, так и преподавателям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вуза, полученные из средств, выделяемых коммерческими предприятиями частной или смешанной формы собственности, зарегистрированных в Российской Федерации, от НИОКР студентов и преподав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вуза, полученные от управления объектами интеллектуальной собственности, произведенными студентами и преподавателями вуза и поставленными на баланс вуз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студентов и преподавателей лауреатов международных премий, премий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чины перехода на компетентностную модель оценива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ход на двухуровневую подготовку, введение ФГОС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петентностный подход в обучении предполагает наличие соответствующих компетенций у преподавателя О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бходимость не только количественных, но и качественных показателей оценки в разных видах деятельн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9"/>
          <p:cNvSpPr/>
          <p:nvPr/>
        </p:nvSpPr>
        <p:spPr>
          <a:xfrm>
            <a:off x="324000" y="4797360"/>
            <a:ext cx="849600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8"/>
          <p:cNvSpPr/>
          <p:nvPr/>
        </p:nvSpPr>
        <p:spPr>
          <a:xfrm>
            <a:off x="324000" y="3716280"/>
            <a:ext cx="849600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324000" y="2637000"/>
            <a:ext cx="849600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6"/>
          <p:cNvSpPr/>
          <p:nvPr/>
        </p:nvSpPr>
        <p:spPr>
          <a:xfrm>
            <a:off x="324000" y="1628640"/>
            <a:ext cx="849600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28640"/>
            <a:ext cx="8891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ласть общепрофессиональных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мпетенции в области образовательной деятельности (собственно преподавание или учебная раб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мпетенции в области метод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мпетенции в области научно-исследовательс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ятельности (или научной работы - НИ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Calibri"/>
              </a:rPr>
              <a:t>Компетентностная модель профессиональной деятельности преподавателя образовательной организации:</a:t>
            </a:r>
            <a:br>
              <a:rPr sz="2500"/>
            </a:b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хнология оценивания педагогических компетенций педагогических кадров образовательной орган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</a:rPr>
              <a:t>Модуль 2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общепрофессиональных компетенций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Область общепрофессиональных компетенций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мение осуществлять профессиональную деятельность в соответствии с занимаемой должностью и нормативами высшей школ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пособность к поиску, обработке и представлению информа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пособность к построению карьерной перспектив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бщепрофессиональные компетенци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50560" y="1600200"/>
            <a:ext cx="8515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лнение «Карты преподавател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 на поиск, обработку и представление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кетирование преподавателей по методике Э. Шейна «Якоря карьеры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роговые значения для оценки умения преподавателей осуществлять профессиональную деятельность в соответствии с занимаемой должностью и нормативами высшей школы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4000" y="2133720"/>
          <a:ext cx="8584920" cy="2158920"/>
        </p:xfrm>
        <a:graphic>
          <a:graphicData uri="http://schemas.openxmlformats.org/drawingml/2006/table">
            <a:tbl>
              <a:tblPr/>
              <a:tblGrid>
                <a:gridCol w="2309760"/>
                <a:gridCol w="1982520"/>
                <a:gridCol w="2146320"/>
                <a:gridCol w="214632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ичное 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ное 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9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69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-94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-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7:57:19Z</dcterms:created>
  <dc:creator>bidbayrova</dc:creator>
  <dc:description/>
  <dc:language>en-US</dc:language>
  <cp:lastModifiedBy>grineva</cp:lastModifiedBy>
  <dcterms:modified xsi:type="dcterms:W3CDTF">2014-04-17T14:52:24Z</dcterms:modified>
  <cp:revision>104</cp:revision>
  <dc:subject/>
  <dc:title>О результатах внешней независимой оценки уровня педагогических компетенций ппс Университета</dc:title>
</cp:coreProperties>
</file>