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051C-7BB9-4CCE-BEBA-F421A03E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0E10-2D63-422B-B892-B6B28C12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E213-47C3-446B-86F4-63033275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E85D-5A38-4D86-955B-067A2A58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1575-EEB8-4E33-B108-4B238484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FBE5-EE44-4452-9997-036A7C80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36C6-E1C2-4065-BC4A-62EDFC93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BE75-3802-4A40-8FCF-F127BDA3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E7F8-72C2-47E9-BC0B-3B25A00C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493B-E6F5-4A25-85DF-F4AE9E98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7DE6-26FE-4317-8642-99FDF408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870F-A49C-46F6-82F4-7660AE55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C318-A764-45A9-AAA2-DECD5877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EB45-AFDC-4CDF-BF97-43CBDEFF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B3EB-CE91-432A-866C-D82B730E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8AD6-6A2D-44E6-B446-D834A780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BC1E-2075-4321-AF0A-04DBA7B4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A5BBC2-F7EB-493D-8B30-925B2BD2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1314EA-7205-4181-B47E-C960A614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667A56-0123-4CC2-9304-03703F9B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976F02-4D2F-44FA-A2EE-ED66E75A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0453E8-F443-4A41-9E57-99E7873D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955C-CDCA-4F32-B714-7A9C459C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65146F-9D7A-438F-8C46-EEAEA1B7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99EDE-2542-44D0-BECA-D2A9C355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8E73D-AD22-4DFA-9427-E3944941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B694C-BFCB-4833-96E6-F77AA90A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8771E-ACD9-440B-B7DA-A467FD89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597EBA-897E-4D4D-B685-8B8EABB11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2DF9B8-D6EF-47A9-A6FD-D1523768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55D6B9-1CFD-4990-A574-4877E23B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CD7360-2047-4E27-94D9-429F103E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F02EA5-90B5-4064-9FFE-E7B9C5B6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4993-D656-4AAF-9DCF-70533EC8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474A69-89C6-44A2-888A-3024646A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37A70A-4CC4-47CF-8F7D-380A5230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AF56ED-3965-4DBC-82F4-6C05AAA7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913AAF-BCBF-48D6-9D32-1AD42AED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2E1332-3C91-42DE-AC42-B055C5B2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4F8D10-0383-4080-AA01-1350ECCF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9000F0-BBD3-46CA-AF96-0D594254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ED1E2D-FC32-4EF2-9AA8-E857A702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498402-5698-4192-B862-F6AAAC4A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31982E-D073-47A5-A56F-0BC24501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8432-341B-4F71-9D9D-B151FE29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4E071F-090F-4CB5-A45B-5123991D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F722B0-957C-41A3-B418-56811991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0F0FA2-7896-4064-A724-1B2A3C8A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F68EA3-8D30-4562-B597-81373B33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26A928-F639-4809-8DA2-C5ACFE98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70E494-866E-4C71-AAF2-013C5D4B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082F0B-4A21-4202-A410-DB09BD5A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C4EFC5-2920-4109-A98D-6E5C7478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3D607F-8B94-4FB0-8E5B-911F572B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436854-DCB3-4F43-AC47-11C5D960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46A2-49A9-4D35-A520-83DB63DE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C0A6E1-9781-4C60-A8FC-EE0802EC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6FCEA-4923-473F-8D5E-3591559F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AA73E-7078-4049-97BF-F96252EE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6B3FE-B312-49E1-A66A-B3A726E1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08506-09A2-44A7-8852-E6B9691F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1B2EE-C33A-45C5-86F3-AE22EC33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03548-24E2-4A53-B85D-82ACDDD2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E09CF-3392-4663-AA1B-60E68316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F7613-DE3E-4BCF-929B-419D390F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33698-6CAF-4063-9720-6E4D7726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E6EC-6A93-4C65-8098-96D97730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B6090-2970-4CF7-83E2-90B199AA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F62FC-6B2F-46D2-A304-95861CD3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337D0-587B-43F3-9CA7-5EE01C70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C9145E-41BC-42E1-93CC-6611AD0C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866AD5-4474-422B-9A73-E503FDB9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8FFF85-7CDE-41C8-90D3-4B11A4C3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8F44B0-0F80-4894-B419-3E49FF78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80A52B-423E-41B4-8312-48DE6EC6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72797D-6840-4C7F-96C0-8C66AD4C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CD506F-A584-4529-98ED-904156D7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6449-733C-4B21-8E8A-F2645BDB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684214-D498-4608-A759-2DD38FFD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92FD03-D433-4369-A53C-725D80A2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ACF396-EBC0-4FB1-A5B0-EB00B485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ABDE76-B936-4C80-8EE6-62C1B181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7FCEDF-7B2C-4ED7-9C2F-6F078B78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4FC5D-93C9-4F27-8A75-771E6798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3689F-8A6C-42DF-959A-C4464194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7629A-4D5D-40EC-BFB0-4D6CF4FD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4C8FA-64C5-493E-B32C-297CCA03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A88C6-38D4-47AC-83B2-97AF9C76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0094-EBA3-49BA-93F3-D7E4BAE7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3D46D-910F-40F9-B3A7-939E3A6E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D5690-2382-432C-A088-BF656DAD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8A6C2-C7C5-4C5B-A781-BFCF393D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78C4C-13D5-4457-937A-5A70B3A6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05FCC-10E5-4BCA-AB3C-FE3D11B5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AACF2-FAD6-4F98-8033-49009D45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AAC7A-781D-4990-84D0-2BF23E5F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7023-3AF9-4CD7-A515-6B044C4DF5D4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1041-514C-466A-8B41-AD0CB5B02FA6}" type="slidenum">
              <a:rPr b="1" lang="ru-RU" sz="1400" spc="-1" strike="noStrike">
                <a:solidFill>
                  <a:srgbClr val="eeece1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5B8E-0286-4CBD-A04F-E7BF0000D0D2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91F4-877B-4C36-B02E-C1CFB5310C0D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A1A0-72B5-42BE-A767-9B50625283A4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B850-A6E4-43FF-BC43-B0B8A65A9FA8}" type="slidenum">
              <a:rPr b="1" lang="ru-RU" sz="14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AD1A-5D72-4294-807E-CD5AB8A40DCD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4ACE-DD74-4D2E-B277-A88EF0482D53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7918560" cy="424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МЕТОДОЛОГИЯ ВНУТРЕННЕЙ И ВНЕШНЕЙ ОЦЕНКИ ПЕРСОНАЛА ОБРАЗОВАТЕЛЬНОЙ ОРГАНИЗАЦИИ –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ПУТИ К ЭФФЕКТИВНОМУ КОНТРАКТУ С СОТРУДНИКАМИ ВСЕХ УРОВНЕЙ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Осечкина Л.И. Осокина С.А. Гринева М.С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755640" y="1557360"/>
          <a:ext cx="7704000" cy="1822320"/>
        </p:xfrm>
        <a:graphic>
          <a:graphicData uri="http://schemas.openxmlformats.org/drawingml/2006/table">
            <a:tbl>
              <a:tblPr/>
              <a:tblGrid>
                <a:gridCol w="1541520"/>
                <a:gridCol w="1539720"/>
                <a:gridCol w="1541520"/>
                <a:gridCol w="1540080"/>
                <a:gridCol w="154116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олж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соответ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астичное соответ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ответ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лное соответ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подав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рший преподав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ц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фесс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3" name="Диаграмма 4" descr=""/>
          <p:cNvPicPr/>
          <p:nvPr/>
        </p:nvPicPr>
        <p:blipFill>
          <a:blip r:embed="rId1"/>
          <a:stretch/>
        </p:blipFill>
        <p:spPr>
          <a:xfrm>
            <a:off x="272880" y="3449520"/>
            <a:ext cx="8670960" cy="319896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1"/>
          <p:cNvSpPr/>
          <p:nvPr/>
        </p:nvSpPr>
        <p:spPr>
          <a:xfrm>
            <a:off x="108000" y="26244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Соответствие выполняемых преподавателями ви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профессиональной деятельности занимаемой должности (в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15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Задания на способность к поиску, переработке и представлению информации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79280" y="1600200"/>
            <a:ext cx="8856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нотирование научных статей по проблемам высшей школы: компетентностный подход, балльно-рейтинговая система оценки, совершенствование качества и т.п. (журналы «Высшая школа», «Качество образования», «Современная высшая школа: инновационный аспект» и д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авление плана статьи по проблемам высшей школы (компетентностный подход, балльно-рейтинговая система оценки, совершенствование качества и т.п.) на основе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terne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ресур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авление списка диссертационных исследований за последние 3-5 лет по проблематике преподаваемой дисциплины на основе анализа электронных ресурсов РГБ (http://www.rsl.r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Уровни сформированности способности к поиску, обработке и представлению информации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78" name="Диаграмма 3" descr=""/>
          <p:cNvPicPr/>
          <p:nvPr/>
        </p:nvPicPr>
        <p:blipFill>
          <a:blip r:embed="rId1"/>
          <a:stretch/>
        </p:blipFill>
        <p:spPr>
          <a:xfrm>
            <a:off x="1065240" y="1793880"/>
            <a:ext cx="68770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ример индивидуальных результатов по методике «Якоря карьеры»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80" name="Содержимое 3" descr=""/>
          <p:cNvPicPr/>
          <p:nvPr/>
        </p:nvPicPr>
        <p:blipFill>
          <a:blip r:embed="rId1"/>
          <a:stretch/>
        </p:blipFill>
        <p:spPr>
          <a:xfrm>
            <a:off x="561960" y="1549440"/>
            <a:ext cx="825516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1989000"/>
            <a:ext cx="8748720" cy="4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82" name="Диаграмма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7826400" cy="467532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5"/>
          <p:cNvSpPr/>
          <p:nvPr/>
        </p:nvSpPr>
        <p:spPr>
          <a:xfrm>
            <a:off x="250920" y="26028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Выраженность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ведущих ориентаций преподавателей (в 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Выраженность ведущих ориентаций у молодых преподавателей (в %)</a:t>
            </a:r>
            <a:br>
              <a:rPr sz="24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85" name="Диаграмма 3" descr=""/>
          <p:cNvPicPr/>
          <p:nvPr/>
        </p:nvPicPr>
        <p:blipFill>
          <a:blip r:embed="rId1"/>
          <a:stretch/>
        </p:blipFill>
        <p:spPr>
          <a:xfrm>
            <a:off x="560520" y="1793880"/>
            <a:ext cx="78786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Calibri"/>
              </a:rPr>
              <a:t>Модуль 3</a:t>
            </a:r>
            <a:endParaRPr b="0" lang="en-US" sz="5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ценка компетенций в области образовательной деятельности персонала образовательной организ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Область образовательных компетенций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50560" y="1600200"/>
            <a:ext cx="8515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ние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страивать образовательный процесс в соответствии с компетентностным подходом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собность к формированию у студентов устойчивой мотивации к учебной и будущей профессиональной деятель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ние в процессе преподавания учебных курсов раскрывать глубину и современность научно-теоретической и профессионально-практической информ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ние конструировать содержание учебных курсов основываясь на логичности и достоверности предлагаемой информ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ние целесообразно выбирать и уместно применять способы и формы организации образовательной деятельности студен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Владение навыками последовательной реализации предъявляемой системы требований и объективности при оценке результа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Владение грамотной профессиональной реч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ние доступно излагать материал, учитывая уровень подготовки студен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ние устанавливать контакт, выбирать адекватные способы общения и взаимодействия со студента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Владение навыками тактичного поддержания порядка, необходимого для конкретных видов учебных занят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собность к творческой организации деятельности студен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ладание профессионально-педагогической индивидуальност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8203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роцедуры оценки:</a:t>
            </a:r>
            <a:br>
              <a:rPr sz="2800"/>
            </a:b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Компетенции в области образовательной деятельности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ещение учебных занятий преподавателей экспертами (экспертная оценка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бланковый опрос самих преподавателей (самооценка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ное или бланковое анкетирование студентов (оценка студент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56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ороговые значения для определения уровня сформированности компетенции в области образовательной деятельности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611280" y="2205000"/>
          <a:ext cx="8153280" cy="233208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15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изкий уров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ний уров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сокий уров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,49 бал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-2,29 бал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-3 бал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785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Персональная оценка профессиональной деятельности преподавателя дает возможность: 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95280" y="1600200"/>
            <a:ext cx="8370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ыявлять затруднения, возникающие в профессиональной деятельности педагога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пределять их причины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нимать обоснованные управленческие решения по кадровым вопросам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соответствии занимаемой преподавателем долж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подтверждении или не подтверждении правомочности притязаний преподавателя на новую должность или зва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поощрениях, награждениях и применении различных средств стимулирования деятельности преподавател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необходимости оказания профессиональной помощи конкретным преподавателям, содействия повышению их квалификации и т.п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Уровни сформированности образовательных компетенций (в %)</a:t>
            </a:r>
            <a:br>
              <a:rPr sz="40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95" name="Содержимое 3" descr=""/>
          <p:cNvPicPr/>
          <p:nvPr/>
        </p:nvPicPr>
        <p:blipFill>
          <a:blip r:embed="rId1"/>
          <a:stretch/>
        </p:blipFill>
        <p:spPr>
          <a:xfrm>
            <a:off x="561960" y="1549440"/>
            <a:ext cx="825516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Calibri"/>
              </a:rPr>
              <a:t>Модуль 4</a:t>
            </a:r>
            <a:endParaRPr b="0" lang="en-US" sz="5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ценка компетенций в области методической деятельности персонала образовательной организ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еречень методических компетенций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95280" y="1600200"/>
            <a:ext cx="8370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собность разрабатывать УМКД в соответствии с компетентностной модель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ние разрабатывать и внедрять в образовательный процесс интерактивные формы и методы обуч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собность составлять учебно-методические материалы к практическим, семинарским, лабораторным занятиям по дисциплин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собность составлять учебно-методические материалы по выполнению курсовых, выпускных квалификационных работ, научно-исследовательских проект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товность обновлять и дополнять УМКД современными разработками в области науки и практи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товность участвовать в работе научно-методических объединений на уровне вуза, региона, международного уровн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собность составлять учебно-методические материалы к учебной и производственной практи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8203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роцедуры оценки: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Компетенции в области методической деятельности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68000" y="1600200"/>
            <a:ext cx="8297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меральный анализ документов, регламентирующих научно-методическую деятельность преподавателей в образовательной организаци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КД, представленных преподавателям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ализ электронной базы библиотеки университет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териалы портфоли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ализ планов учебных занятий преподавате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вьюиров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одуль 5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2060280"/>
            <a:ext cx="81532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ценка компетенций в области научно-исследовательской деятельности персонала образовательной организ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89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Компетенции в области научно-исследовательской деятельности: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50560" y="1600200"/>
            <a:ext cx="8515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собность определять методологические характеристики научного исслед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ние представлять результаты научного исследования профессиональному сообществ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собность осуществлять рефлексию результатов НИР и определять перспективы дальнейших исследова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собность к внедрению результатов научных исследований в образовательную деятельность, науку, социальную, экономическую и производственную сфе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товность участвовать в грантовых проект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ние представлять процесс и результат научных исследований в форме научных тезисов и статей в периодике (газеты, журналы) и СМИ (Интернет-издани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собность осуществлять эффективное научное руководство деятельностью магистрантов, аспирантов, соискателей, доктора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ние организовывать научно-исследовательскую деятельность студен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82036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роцедуры оценки:</a:t>
            </a:r>
            <a:br>
              <a:rPr sz="2800"/>
            </a:b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Компетенции в области научно-исследовательской деятельности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24000" y="1773000"/>
            <a:ext cx="84420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зентация преподавателем своей научной работ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ление и анализ индивидуального портфоли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тервьюиров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Нормативные документы: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just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«Об образовании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 algn="just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 Президента РФ от 07.05.2012 г. № 599 «О мерах по реализации государственной политики в области образования и науки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 algn="just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социально-экономической стратегии России до 2020 го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 algn="just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 Президента РФ № 899 «Об утверждении приоритетных направлений развития науки, технологий и техники в Российской Федерации и перечня критических технологий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 algn="just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развития исследовательской и инновационной деятельности в российских вузах, ФЗ № 217 от 02.08.2009г. «О внесении изменений в отдельные законодательные акты Российской Федерации по вопросам создания бюджетными научными и образовательными учреждениями хозяйственных обществ в целях практического применения (внедрения) результатов интеллектуальной деятельности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 algn="just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я инновационного развития Российской Федерации на период до 2020 го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ониторинг деятельности федеральных государственных образовательных учреждений высшего профессионального образования и их филиалов, проводимым Минобрнауки, (АК-120/05 от 08.08.2012): </a:t>
            </a:r>
            <a:br>
              <a:rPr sz="1800"/>
            </a:b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оценки эффективности вуза сгруппирован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5 групп по 50 показателям, из них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бразовательную деятельность – 12 показателе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ую деятельность – 9 показателе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о-экономическую деятельность – 5 показателе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раструктуру – 7 показателе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-исследовательскую деятельность – 17 показа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Перечень критериев оценки научно-исследовательской деятельности, предложенных Министерством образования и науки Российской Федерации, включает следующие параметры: 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цитирований в Web of Science, Scopus, в РИНЦ как студентов, так и преподавател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доходов вуза от НИОКР на средства грантов РФФИ, РГНФ, Президента Российской Федерации, некоммерческих негосударственных фондов, зарегистрированных в Российской Федерации, из федерального бюджета в рамках федеральных целевых программ, а также государственных контрактов с федеральными и региональными министерствами, ведомствами, государственными учреждениями, полученных как студентами, так и преподавателям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 вуза, полученные из средств, выделяемых коммерческими предприятиями частной или смешанной формы собственности, зарегистрированных в Российской Федерации, от НИОКР студентов и преподавателе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 вуза, полученные от управления объектами интеллектуальной собственности, произведенными студентами и преподавателями вуза и поставленными на баланс вуз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студентов и преподавателей лауреатов международных премий, премий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22860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ричины перехода на компетентностную модель оценивания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еход на двухуровневую подготовку, введение ФГОС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омпетентностный подход в обучении предполагает наличие соответствующих компетенций у преподавателя ОО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еобходимость не только количественных, но и качественных показателей оценки в разных видах деятельност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Скругленный прямоугольник 9"/>
          <p:cNvSpPr/>
          <p:nvPr/>
        </p:nvSpPr>
        <p:spPr>
          <a:xfrm>
            <a:off x="324000" y="4797360"/>
            <a:ext cx="8496000" cy="93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кругленный прямоугольник 8"/>
          <p:cNvSpPr/>
          <p:nvPr/>
        </p:nvSpPr>
        <p:spPr>
          <a:xfrm>
            <a:off x="324000" y="3716280"/>
            <a:ext cx="849600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7"/>
          <p:cNvSpPr/>
          <p:nvPr/>
        </p:nvSpPr>
        <p:spPr>
          <a:xfrm>
            <a:off x="324000" y="2637000"/>
            <a:ext cx="8496000" cy="93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кругленный прямоугольник 6"/>
          <p:cNvSpPr/>
          <p:nvPr/>
        </p:nvSpPr>
        <p:spPr>
          <a:xfrm>
            <a:off x="324000" y="1628640"/>
            <a:ext cx="849600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1628640"/>
            <a:ext cx="88916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Область общепрофессиональных компетен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Компетенции в области образовательной деятельности (собственно преподавание или учебная рабо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Компетенции в области методическ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Компетенции в области научно-исследовательск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деятельности (или научной работы - НИР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785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f497d"/>
                </a:solidFill>
                <a:latin typeface="Calibri"/>
              </a:rPr>
              <a:t>Компетентностная модель профессиональной деятельности преподавателя образовательной организации:</a:t>
            </a:r>
            <a:br>
              <a:rPr sz="2500"/>
            </a:b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Технология оценивания педагогических компетенций педагогических кадров образовательной организ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Calibri"/>
              </a:rPr>
              <a:t>Модуль 2</a:t>
            </a:r>
            <a:endParaRPr b="0" lang="en-US" sz="5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ценка общепрофессиональных компетенций персонала образовательной организ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  <a:ea typeface="Times New Roman"/>
              </a:rPr>
              <a:t>Область общепрофессиональных компетенций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мение осуществлять профессиональную деятельность в соответствии с занимаемой должностью и нормативами высшей школы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пособность к поиску, обработке и представлению информаци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пособность к построению карьерной перспективы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8203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роцедуры оценки:</a:t>
            </a: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бщепрофессиональные компетенции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50560" y="1600200"/>
            <a:ext cx="8515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полнение «Карты преподавателя»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ние на поиск, обработку и представление информ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кетирование преподавателей по методике Э. Шейна «Якоря карьеры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8000" y="228600"/>
            <a:ext cx="903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Пороговые значения для оценки умения преподавателей осуществлять профессиональную деятельность в соответствии с занимаемой должностью и нормативами высшей школы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24000" y="2133720"/>
          <a:ext cx="8584920" cy="2158920"/>
        </p:xfrm>
        <a:graphic>
          <a:graphicData uri="http://schemas.openxmlformats.org/drawingml/2006/table">
            <a:tbl>
              <a:tblPr/>
              <a:tblGrid>
                <a:gridCol w="2309760"/>
                <a:gridCol w="1982520"/>
                <a:gridCol w="2146320"/>
                <a:gridCol w="2146320"/>
              </a:tblGrid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соответ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астичное соответ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ответ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ное соответ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9,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-69,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-94,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-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7:57:19Z</dcterms:created>
  <dc:creator>bidbayrova</dc:creator>
  <dc:description/>
  <dc:language>en-US</dc:language>
  <cp:lastModifiedBy>grineva</cp:lastModifiedBy>
  <dcterms:modified xsi:type="dcterms:W3CDTF">2014-04-17T14:52:24Z</dcterms:modified>
  <cp:revision>104</cp:revision>
  <dc:subject/>
  <dc:title>О результатах внешней независимой оценки уровня педагогических компетенций ппс Университета</dc:title>
</cp:coreProperties>
</file>