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296-F835-4FB1-9420-6493553C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C72-C54D-434A-8F5C-02C0EE3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172-FD13-40B7-99EA-21D1BF9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8F1-3423-47C3-AC52-739FABA7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F46-5F77-456E-AD7D-D66220C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8FB-D249-4F0E-98D2-3326BDA6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6EA-6BFA-4582-8B18-A113684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647-9124-4022-ACD6-E82D730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D8C-084D-4842-8E93-F2CA006A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6FB-0813-47E7-8DDB-53B59A9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9D2-8010-4C38-AAE4-BFC512C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B13-B195-4C4C-BA8B-61445A2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E48-0A67-4F41-9AF8-CB0DD8378E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911-8312-4B79-8B21-A01FEA480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e.v.zakhvatova@gmail.co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2" descr="25005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back"/>
          <p:cNvPicPr/>
          <p:nvPr/>
        </p:nvPicPr>
        <p:blipFill>
          <a:blip r:embed="rId2"/>
          <a:stretch/>
        </p:blipFill>
        <p:spPr>
          <a:xfrm>
            <a:off x="-19080" y="4846680"/>
            <a:ext cx="9175680" cy="20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5" descr="back_1"/>
          <p:cNvPicPr/>
          <p:nvPr/>
        </p:nvPicPr>
        <p:blipFill>
          <a:blip r:embed="rId3"/>
          <a:stretch/>
        </p:blipFill>
        <p:spPr>
          <a:xfrm>
            <a:off x="0" y="0"/>
            <a:ext cx="9144000" cy="1730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68360" y="551664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яя оценка профессорско-преподавательского состава 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8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2214360" cy="92880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5819-61E8-419C-B066-578FAF0D4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Calibri"/>
              </a:rPr>
              <a:t>Цель</a:t>
            </a: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 перехода на эффективный контрак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реализация изменений в сфере высшего образования, направленных на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повышение эффективности и качеств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услуг в сфере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170-B730-412E-A880-AB4002E3E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8840" y="274680"/>
            <a:ext cx="75009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Методика перехода на эффективный контракт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перевод профессорско-преподавательского состава организаций, реализующих программы высшего образования, на эффективный контракт, за счет  заключения соответствующих дополнительных соглашений к трудовым договорам со всеми педагогическими работниками организации, на основе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Calibri"/>
              </a:rPr>
              <a:t>целевых показателей эффе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аботы каждого сотруд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A5A-FCEA-4650-A618-23920E20D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43040" y="428760"/>
            <a:ext cx="7500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Этапы перевода ППС на эффективный контр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356840"/>
            <a:ext cx="8429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внешнего (внутреннего) аудита ППС образовательной орган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Разработка рекомендаций для ОО по следующим направлени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1. Оптимизация системы управления персоналом (кадровой политик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2. Оптимизация численности ПП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3. </a:t>
            </a: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Актуализация системы мотив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ПС на основе целевых показателей эффективности работы каждого сотрудника – </a:t>
            </a: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ПЕРЕВОД СОТРУДНИКОВ НА ЭФФЕКТИВНЫЙ КОНТРА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4. Актуализация системы профессионального развития 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  Оказание дальнейшей поддержки образовательной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A91E-CFFE-4B44-8797-9B56E758B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500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Актуализация системы мотивации ППС 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356840"/>
            <a:ext cx="8429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критериев эффективности деятельности ППС, влияющих на переменную часть заработной пла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механизма оплаты труда ППС за счет введения переменной (стимулирующей) части заработной пл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процедуры аттестации ПП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5D10-D26B-4CAD-951A-13C38E010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3040" y="356760"/>
            <a:ext cx="7500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Внешняя оценка ППС образовательной организации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6"/>
          <p:cNvSpPr/>
          <p:nvPr/>
        </p:nvSpPr>
        <p:spPr>
          <a:xfrm>
            <a:off x="1643040" y="85716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1ACD-DE80-4814-A6B8-4EF5BBA3B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864720"/>
            <a:ext cx="8253360" cy="49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ение высокого уровня качества образования и планируемых результатов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репление гарантий качества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ение реализации образовательной программы в соответствии с современными требованиями и запросами рынка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в процессе реализации программы современных образовательных методик и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ультуры качества образования у сотрудников и преподава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214200" y="189000"/>
            <a:ext cx="8750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хватова Елена Валенти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.v.zakhvatova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(495)221-81-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5"/>
          <p:cNvSpPr/>
          <p:nvPr/>
        </p:nvSpPr>
        <p:spPr>
          <a:xfrm>
            <a:off x="1714680" y="10717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8" descr=""/>
          <p:cNvPicPr/>
          <p:nvPr/>
        </p:nvPicPr>
        <p:blipFill>
          <a:blip r:embed="rId3"/>
          <a:stretch/>
        </p:blipFill>
        <p:spPr>
          <a:xfrm>
            <a:off x="142920" y="214200"/>
            <a:ext cx="157176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226E-A870-470B-B0B3-1FCA009FD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етодология QS World University Ranking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7"/>
          <p:cNvSpPr/>
          <p:nvPr/>
        </p:nvSpPr>
        <p:spPr>
          <a:xfrm>
            <a:off x="1285920" y="12859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039-7496-42E0-83B9-C4EACC2F0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хема 9" descr=""/>
          <p:cNvPicPr/>
          <p:nvPr/>
        </p:nvPicPr>
        <p:blipFill>
          <a:blip r:embed="rId3"/>
          <a:stretch/>
        </p:blipFill>
        <p:spPr>
          <a:xfrm>
            <a:off x="512640" y="1384200"/>
            <a:ext cx="847260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85880" y="2214720"/>
          <a:ext cx="7572240" cy="3571560"/>
        </p:xfrm>
        <a:graphic>
          <a:graphicData uri="http://schemas.openxmlformats.org/drawingml/2006/table">
            <a:tbl>
              <a:tblPr/>
              <a:tblGrid>
                <a:gridCol w="1143000"/>
                <a:gridCol w="4572000"/>
                <a:gridCol w="185724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крите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ельный 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ая репут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утация среди работода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ППС к числу студен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екс цитируем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ных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ных преподава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3040" y="274680"/>
            <a:ext cx="704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осковский государственный университет имени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. В. Ломонос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7"/>
          <p:cNvSpPr/>
          <p:nvPr/>
        </p:nvSpPr>
        <p:spPr>
          <a:xfrm>
            <a:off x="1285920" y="1285920"/>
            <a:ext cx="7429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37F-87D5-43D4-B748-032908877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9" descr=""/>
          <p:cNvPicPr/>
          <p:nvPr/>
        </p:nvPicPr>
        <p:blipFill>
          <a:blip r:embed="rId3"/>
          <a:stretch/>
        </p:blipFill>
        <p:spPr>
          <a:xfrm>
            <a:off x="512640" y="1384200"/>
            <a:ext cx="847260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85880" y="2214720"/>
          <a:ext cx="3143160" cy="3730320"/>
        </p:xfrm>
        <a:graphic>
          <a:graphicData uri="http://schemas.openxmlformats.org/drawingml/2006/table">
            <a:tbl>
              <a:tblPr/>
              <a:tblGrid>
                <a:gridCol w="714240"/>
                <a:gridCol w="1428840"/>
                <a:gridCol w="1000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е да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5" name="Диаграмма 12" descr=""/>
          <p:cNvPicPr/>
          <p:nvPr/>
        </p:nvPicPr>
        <p:blipFill>
          <a:blip r:embed="rId4"/>
          <a:stretch/>
        </p:blipFill>
        <p:spPr>
          <a:xfrm>
            <a:off x="4071960" y="2571840"/>
            <a:ext cx="4809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85480"/>
            <a:ext cx="7429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Московский государственный университет имени 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М. В. Ломоносова (результаты выполнения критериев, 2013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6"/>
          <p:cNvSpPr/>
          <p:nvPr/>
        </p:nvSpPr>
        <p:spPr>
          <a:xfrm>
            <a:off x="1571760" y="1214280"/>
            <a:ext cx="7143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D7F-3B8E-49D1-84CD-98C43321C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57120" y="1397160"/>
          <a:ext cx="8429760" cy="4605120"/>
        </p:xfrm>
        <a:graphic>
          <a:graphicData uri="http://schemas.openxmlformats.org/drawingml/2006/table">
            <a:tbl>
              <a:tblPr/>
              <a:tblGrid>
                <a:gridCol w="4432320"/>
                <a:gridCol w="2035080"/>
                <a:gridCol w="196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баллов из 100 возмо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в рейтинге по критер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ая репу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утация среди работод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научно-преподавательского состава и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цев в научно-преподавательском соста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иностранцев в общем числе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цитирований на одного сотруд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760" y="142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Международный обзор публикационной активности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(с 1999 по 2009 г.г., по базе данных 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Thomson 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Scientific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4"/>
          <p:cNvSpPr/>
          <p:nvPr/>
        </p:nvSpPr>
        <p:spPr>
          <a:xfrm>
            <a:off x="1332000" y="1197000"/>
            <a:ext cx="6553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3E3-C299-4A86-8733-629976A0C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285920"/>
          <a:ext cx="80722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2000160"/>
                <a:gridCol w="1843200"/>
                <a:gridCol w="1614240"/>
                <a:gridCol w="161460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та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сы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. число ссылок на одну ста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74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69.0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2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.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06.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2.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99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.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02.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8.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04.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4.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33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3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7.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9.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4320" y="28584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Нормативная баз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 мероприятий («дорожная карта»)  «Изменения в отраслях социальной сферы, направленные на повышение эффективности образования и науки», утвержденным распоряжением Правительства Российской Федерации  от 30 декабря 2012 г. № 2620-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ая программа Российской Федерации «Развитие образования» (распоряжение Правительства Российской Федерации от 22 ноября 2012 г. № 2148-р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 «Об образовании в Российской Федераци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6"/>
          <p:cNvSpPr/>
          <p:nvPr/>
        </p:nvSpPr>
        <p:spPr>
          <a:xfrm>
            <a:off x="1643040" y="100008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7CB-D6A1-4103-BD18-514D3CA7D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71400" y="142920"/>
            <a:ext cx="73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План мероприятий ("дорожная карта") "Изменения в отраслях социальной сферы, направленные на повышение эффективности образования и науки»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утв. распоряжением Правительства РФ от 30 декабря 2012 г. № 2620-р</a:t>
            </a: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42884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асть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менения в сфере высшего образования, направленные на повышение эффективности и качества услуг в сфере образования, соотнесенные с этапами перехода к эффективному контра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направлени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кадрового потенциала высш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жидаемые результат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ет сформирована сбалансированная сеть образовательных организаций высшего образования, ориентированная на удовлетворение потребности работодателей в высококвалифицированных кадрах и развитие научно-технологического потенциала российских регион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усматривается осуществление структурных преобразований сети российских образовательных организаций высшего образования, создание условий для вхождени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 2020 году 5 вузов - лидеров в первую сотню ведущих мировых университет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сно мировому рейтингу университе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высится уровень мотивац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учных и научно-педагогических кадро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амках перехода к эффективному контракту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Будут реализованы новые финансово-экономические механизмы, обеспечивающие конкуренцию и повышение качества высшего образ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4FF-525E-49F1-9FBD-EA45A2A88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5"/>
          <p:cNvSpPr/>
          <p:nvPr/>
        </p:nvSpPr>
        <p:spPr>
          <a:xfrm>
            <a:off x="1571760" y="12859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6615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Развитие кадрового потенциала высшего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1071720"/>
          <a:ext cx="8643960" cy="5246640"/>
        </p:xfrm>
        <a:graphic>
          <a:graphicData uri="http://schemas.openxmlformats.org/drawingml/2006/table">
            <a:tbl>
              <a:tblPr/>
              <a:tblGrid>
                <a:gridCol w="428400"/>
                <a:gridCol w="3743640"/>
                <a:gridCol w="1471320"/>
                <a:gridCol w="300060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4200" rIns="34200" tIns="34200" bIns="68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74"/>
                        </a:spcBef>
                        <a:spcAft>
                          <a:spcPts val="10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4200" rIns="34200" tIns="34200" bIns="68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74"/>
                        </a:spcBef>
                        <a:spcAft>
                          <a:spcPts val="10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апробация моделей эффективного контракта в системе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4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средней заработной платы ППС образовательных организаций ВО к средней заработной плате в соответствующем реги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ельный вес численности преподавателей организаций высшего образования моложе 30 лет в общей численности преподавателей организаций 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ение моделей эффективного контракта в системе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- 2016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внедрение механизмов эффективного контракта с руководителями образовательных организаций высше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2018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ое и мониторинговое сопровождение введения эффективного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8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влияния внедрения эффективного контракта на качество образовательных услуг системы высшего образования, в том числе выявление лучших практик внедрения эффективного кон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 и 2017 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9E11-594B-46DF-83C4-46F85A1AF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5"/>
          <p:cNvSpPr/>
          <p:nvPr/>
        </p:nvSpPr>
        <p:spPr>
          <a:xfrm>
            <a:off x="1571760" y="1000080"/>
            <a:ext cx="716904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68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990000"/>
                </a:solidFill>
                <a:latin typeface="Calibri"/>
              </a:rPr>
              <a:t>Эффективный контракт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входит в программу поэтапного совершенствования системы оплаты труда в государственных учреждениях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012-2018 гг. и будет учитываться как один из </a:t>
            </a:r>
            <a:r>
              <a:rPr b="1" lang="ru-RU" sz="2600" spc="-1" strike="noStrike">
                <a:solidFill>
                  <a:srgbClr val="990000"/>
                </a:solidFill>
                <a:latin typeface="Calibri"/>
              </a:rPr>
              <a:t>показателей эффективности управления вузом</a:t>
            </a:r>
            <a:r>
              <a:rPr b="0" lang="ru-RU" sz="26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468440" cy="6127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6"/>
          <p:cNvSpPr/>
          <p:nvPr/>
        </p:nvSpPr>
        <p:spPr>
          <a:xfrm>
            <a:off x="1643040" y="1071720"/>
            <a:ext cx="7169040" cy="1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F7AE-9446-4743-818D-71CE5BD39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hitehoff</dc:creator>
  <dc:description/>
  <dc:language>en-US</dc:language>
  <cp:lastModifiedBy>toshiba</cp:lastModifiedBy>
  <cp:lastPrinted>2011-03-02T09:06:39Z</cp:lastPrinted>
  <dcterms:modified xsi:type="dcterms:W3CDTF">2014-04-18T13:28:55Z</dcterms:modified>
  <cp:revision>450</cp:revision>
  <dc:subject/>
  <dc:title>Слайд 1</dc:title>
</cp:coreProperties>
</file>